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EF2-23FC-4CAE-B738-29E58372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51A-6D48-4D05-A1CB-B7C1F41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29E-6F78-4E63-A976-A5A4FA9D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1ED-1989-4A6C-AF76-E5ACF960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C9A-A647-4374-840B-E777BFF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675-2552-4C7E-AC0C-257010BA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997-EA31-406B-9DE7-83994CE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792-39B8-4742-9703-1E7C5A03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43F-1B5D-4673-8A87-71F8686A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46D-1203-402F-8A54-2B4895B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B6E-7496-477C-9686-9CFB10C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C37-B02A-4393-817A-DF5827E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D81-ADC4-4EA7-8854-FB8A0B20C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773000"/>
            <a:ext cx="7272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Тема: «Стили семейного  воспитания - две стороны одной меда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836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МБОУ «Начальная школа – детский сад 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3645000"/>
            <a:ext cx="2592360" cy="22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4720" y="4508640"/>
            <a:ext cx="33130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едагог-психоло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овокщёнова О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17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Четвёртый  сад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96" descr="http://im8-tub-ru.yandex.net/i?id=436328970-41-72&amp;n=21"/>
          <p:cNvPicPr/>
          <p:nvPr/>
        </p:nvPicPr>
        <p:blipFill>
          <a:blip r:embed="rId2"/>
          <a:stretch/>
        </p:blipFill>
        <p:spPr>
          <a:xfrm>
            <a:off x="2195640" y="2602080"/>
            <a:ext cx="4248000" cy="221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129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Последний  сад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0920" y="2492280"/>
            <a:ext cx="5011920" cy="32846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72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Кто такие  садовник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Кого представляют  собой цве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Какие  мысли  у  вас вызвала  сказ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17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Мини-л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7"/>
          <p:cNvGrpSpPr/>
          <p:nvPr/>
        </p:nvGrpSpPr>
        <p:grpSpPr>
          <a:xfrm>
            <a:off x="971640" y="1503360"/>
            <a:ext cx="7344360" cy="4446360"/>
            <a:chOff x="971640" y="1503360"/>
            <a:chExt cx="7344360" cy="4446360"/>
          </a:xfrm>
        </p:grpSpPr>
        <p:cxnSp>
          <p:nvCxnSpPr>
            <p:cNvPr id="78" name="_s8224"/>
            <p:cNvCxnSpPr>
              <a:stCxn id="79" idx="3"/>
              <a:endCxn id="80" idx="2"/>
            </p:cNvCxnSpPr>
            <p:nvPr/>
          </p:nvCxnSpPr>
          <p:spPr>
            <a:xfrm flipV="1">
              <a:off x="5378400" y="2138040"/>
              <a:ext cx="735120" cy="635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1" name="_s8220"/>
            <p:cNvCxnSpPr>
              <a:stCxn id="82" idx="3"/>
              <a:endCxn id="80" idx="2"/>
            </p:cNvCxnSpPr>
            <p:nvPr/>
          </p:nvCxnSpPr>
          <p:spPr>
            <a:xfrm flipV="1">
              <a:off x="5378400" y="2138040"/>
              <a:ext cx="735120" cy="2541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3" name="_s8201"/>
            <p:cNvCxnSpPr>
              <a:stCxn id="84" idx="3"/>
              <a:endCxn id="80" idx="2"/>
            </p:cNvCxnSpPr>
            <p:nvPr/>
          </p:nvCxnSpPr>
          <p:spPr>
            <a:xfrm flipV="1">
              <a:off x="5378400" y="2138040"/>
              <a:ext cx="735120" cy="3494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5" name="_s8203"/>
            <p:cNvCxnSpPr>
              <a:stCxn id="86" idx="3"/>
              <a:endCxn id="80" idx="2"/>
            </p:cNvCxnSpPr>
            <p:nvPr/>
          </p:nvCxnSpPr>
          <p:spPr>
            <a:xfrm flipV="1">
              <a:off x="5378400" y="2137680"/>
              <a:ext cx="735120" cy="1588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0" name="_s8204"/>
            <p:cNvSpPr/>
            <p:nvPr/>
          </p:nvSpPr>
          <p:spPr>
            <a:xfrm>
              <a:off x="3909240" y="1503360"/>
              <a:ext cx="4406760" cy="635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0093"/>
                  </a:solidFill>
                  <a:latin typeface="Tahoma"/>
                </a:rPr>
                <a:t>Стили  воспит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5"/>
            <p:cNvSpPr/>
            <p:nvPr/>
          </p:nvSpPr>
          <p:spPr>
            <a:xfrm>
              <a:off x="971640" y="3408840"/>
              <a:ext cx="4406760" cy="635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Попуститель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7"/>
            <p:cNvSpPr/>
            <p:nvPr/>
          </p:nvSpPr>
          <p:spPr>
            <a:xfrm>
              <a:off x="971640" y="5314680"/>
              <a:ext cx="4406760" cy="635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Демократиче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9"/>
            <p:cNvSpPr/>
            <p:nvPr/>
          </p:nvSpPr>
          <p:spPr>
            <a:xfrm>
              <a:off x="971640" y="4361760"/>
              <a:ext cx="4406760" cy="635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Arial"/>
                </a:rPr>
                <a:t>Гиперопе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23"/>
            <p:cNvSpPr/>
            <p:nvPr/>
          </p:nvSpPr>
          <p:spPr>
            <a:xfrm>
              <a:off x="971640" y="2455920"/>
              <a:ext cx="4406760" cy="635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Авторита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Авторитарный  ст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1727280" cy="237456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859280" y="2708280"/>
            <a:ext cx="3338640" cy="22255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796000" y="1341360"/>
            <a:ext cx="129708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35280" y="1341360"/>
            <a:ext cx="1366560" cy="1298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9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лабая  жизненная  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501336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Деспотическая  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561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Попустительский  ст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3241800" cy="219996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2637000"/>
            <a:ext cx="3097440" cy="216036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97" name=""/>
          <p:cNvSpPr/>
          <p:nvPr/>
        </p:nvSpPr>
        <p:spPr>
          <a:xfrm flipH="1">
            <a:off x="1835280" y="1341360"/>
            <a:ext cx="1366560" cy="1298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129708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5013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Безучастность  в  отношении 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5084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седозво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17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Гиперопек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35280" y="1341360"/>
            <a:ext cx="1366560" cy="1298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1341360"/>
            <a:ext cx="129708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869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ысокомерие, капризность, эго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5084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Беспомо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81" descr="http://im7-tub-ru.yandex.net/i?id=127310101-36-72&amp;n=21"/>
          <p:cNvPicPr/>
          <p:nvPr/>
        </p:nvPicPr>
        <p:blipFill>
          <a:blip r:embed="rId2"/>
          <a:stretch/>
        </p:blipFill>
        <p:spPr>
          <a:xfrm>
            <a:off x="1042920" y="2637000"/>
            <a:ext cx="2876760" cy="2304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7" name="Рисунок 93" descr="http://im2-tub-ru.yandex.net/i?id=124259360-28-72&amp;n=21"/>
          <p:cNvPicPr/>
          <p:nvPr/>
        </p:nvPicPr>
        <p:blipFill>
          <a:blip r:embed="rId3"/>
          <a:stretch/>
        </p:blipFill>
        <p:spPr>
          <a:xfrm>
            <a:off x="5003640" y="2637000"/>
            <a:ext cx="2876760" cy="21715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p:transition>
    <p:cover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Демократический ст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utzungstipps_Familie"/>
          <p:cNvPicPr/>
          <p:nvPr/>
        </p:nvPicPr>
        <p:blipFill>
          <a:blip r:embed="rId2"/>
          <a:stretch/>
        </p:blipFill>
        <p:spPr>
          <a:xfrm>
            <a:off x="1771560" y="2060640"/>
            <a:ext cx="5600880" cy="32306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p:transition>
    <p:cover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Упражнение  «Стили  воспит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77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2276640"/>
          <a:ext cx="7274160" cy="2674800"/>
        </p:xfrm>
        <a:graphic>
          <a:graphicData uri="http://schemas.openxmlformats.org/drawingml/2006/table">
            <a:tbl>
              <a:tblPr/>
              <a:tblGrid>
                <a:gridCol w="2424240"/>
                <a:gridCol w="2257200"/>
                <a:gridCol w="2592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обенности  воспитания  род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ты  характера 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403280" y="141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ВТОРИТАРНЫЙ  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3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836280"/>
            <a:ext cx="719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Игра  «Сказочная  поч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7" descr="http://www.prodaem.in.ua/images/35027/10000015-hires-49441840192c27d1.jpg"/>
          <p:cNvPicPr/>
          <p:nvPr/>
        </p:nvPicPr>
        <p:blipFill>
          <a:blip r:embed="rId2"/>
          <a:stretch/>
        </p:blipFill>
        <p:spPr>
          <a:xfrm>
            <a:off x="2340000" y="1916280"/>
            <a:ext cx="3960720" cy="346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2723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Упражнение «Здравствуйт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74170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Привет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http://cs302711.userapi.com/u168721541/-14/x_77092436.jpg"/>
          <p:cNvPicPr/>
          <p:nvPr/>
        </p:nvPicPr>
        <p:blipFill>
          <a:blip r:embed="rId2"/>
          <a:stretch/>
        </p:blipFill>
        <p:spPr>
          <a:xfrm>
            <a:off x="2124000" y="2565360"/>
            <a:ext cx="4019760" cy="3019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17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Упражнение  «Сказочные  геро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180036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Documents and Settings\Аленький Цветочек\Мои документы\Мои рисунки\гномики\6dbdb1622afct.jpg"/>
          <p:cNvPicPr/>
          <p:nvPr/>
        </p:nvPicPr>
        <p:blipFill>
          <a:blip r:embed="rId3"/>
          <a:stretch/>
        </p:blipFill>
        <p:spPr>
          <a:xfrm>
            <a:off x="3348000" y="1989000"/>
            <a:ext cx="227808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Аленький Цветочек\Мои документы\Мои рисунки\гномики\70306-Young-Prince-Carrying-A-Bow-And-A-Ball.jpg"/>
          <p:cNvPicPr/>
          <p:nvPr/>
        </p:nvPicPr>
        <p:blipFill>
          <a:blip r:embed="rId4"/>
          <a:stretch/>
        </p:blipFill>
        <p:spPr>
          <a:xfrm>
            <a:off x="6084720" y="1628640"/>
            <a:ext cx="198144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Упражнение  </a:t>
            </a: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«Сказки  нашего  дет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90" descr="http://im4-tub-ru.yandex.net/i?id=85262944-66-72&amp;n=2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195640" y="2637000"/>
            <a:ext cx="4248000" cy="2827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p:transition>
    <p:cover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Правила 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http://www.eksmagazyn.pl/wp-content/uploads/2011/11/123nowepraca111.jpg"/>
          <p:cNvPicPr/>
          <p:nvPr/>
        </p:nvPicPr>
        <p:blipFill>
          <a:blip r:embed="rId2"/>
          <a:stretch/>
        </p:blipFill>
        <p:spPr>
          <a:xfrm>
            <a:off x="971640" y="1557360"/>
            <a:ext cx="3168720" cy="2379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http://abdpro.ru/wp-content/uploads/2012/07/tr_logo.png"/>
          <p:cNvPicPr/>
          <p:nvPr/>
        </p:nvPicPr>
        <p:blipFill>
          <a:blip r:embed="rId3"/>
          <a:stretch/>
        </p:blipFill>
        <p:spPr>
          <a:xfrm>
            <a:off x="4859280" y="1557360"/>
            <a:ext cx="3083040" cy="2593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http://news.sarbc.ru/images/2012/05/img_bDtwJI.jpg"/>
          <p:cNvPicPr/>
          <p:nvPr/>
        </p:nvPicPr>
        <p:blipFill>
          <a:blip r:embed="rId4"/>
          <a:stretch/>
        </p:blipFill>
        <p:spPr>
          <a:xfrm>
            <a:off x="3203640" y="4062240"/>
            <a:ext cx="2333520" cy="217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201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ой  сказочный  герой  нравится  вашему  ребён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  какого  героя  хотел  он  хотел  бы  быть  похож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773360" cy="30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Аленький Цветочек\Мои документы\Мои рисунки\гномики\70309-Royalty-Free-RF-Clipart-Illustration-Of-An-Evil-Creepy-King.jpg"/>
          <p:cNvPicPr/>
          <p:nvPr/>
        </p:nvPicPr>
        <p:blipFill>
          <a:blip r:embed="rId3"/>
          <a:stretch/>
        </p:blipFill>
        <p:spPr>
          <a:xfrm>
            <a:off x="895320" y="3284640"/>
            <a:ext cx="187632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Аленький Цветочек\Мои документы\Мои рисунки\гномики\0_5078c_a815314e_XXXL.png"/>
          <p:cNvPicPr/>
          <p:nvPr/>
        </p:nvPicPr>
        <p:blipFill>
          <a:blip r:embed="rId4"/>
          <a:srcRect l="0" t="5659" r="16892" b="4494"/>
          <a:stretch/>
        </p:blipFill>
        <p:spPr>
          <a:xfrm>
            <a:off x="3780000" y="3357720"/>
            <a:ext cx="1890720" cy="2519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Просмотр  интервью  с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05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«Устами      младенц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3405240" cy="367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17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«Сказка  о  садовник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201080" cy="46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201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Первый  садов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0675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005280" cy="4235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8" descr="http://img-fotki.yandex.ru/get/1/evgenija55.3/0_e802_e8d74026_XL"/>
          <p:cNvPicPr/>
          <p:nvPr/>
        </p:nvPicPr>
        <p:blipFill>
          <a:blip r:embed="rId3"/>
          <a:stretch/>
        </p:blipFill>
        <p:spPr>
          <a:xfrm>
            <a:off x="1476360" y="2781360"/>
            <a:ext cx="4248000" cy="27604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3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Второй  сад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lightboxImage" descr="Укоренить черенки роз"/>
          <p:cNvPicPr/>
          <p:nvPr/>
        </p:nvPicPr>
        <p:blipFill>
          <a:blip r:embed="rId2"/>
          <a:stretch/>
        </p:blipFill>
        <p:spPr>
          <a:xfrm>
            <a:off x="3492360" y="2492280"/>
            <a:ext cx="183852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417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Третий  сад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2465280" cy="3700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0:37:59Z</dcterms:created>
  <dc:creator>123</dc:creator>
  <dc:description/>
  <dc:language>en-US</dc:language>
  <cp:lastModifiedBy>Оксана</cp:lastModifiedBy>
  <dcterms:modified xsi:type="dcterms:W3CDTF">2013-08-29T07:02:07Z</dcterms:modified>
  <cp:revision>34</cp:revision>
  <dc:subject/>
  <dc:title>Слайд 1</dc:title>
</cp:coreProperties>
</file>